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C0FC-627C-4754-B89A-88DF2E027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C6DF-A270-46B8-872D-E1C2D0AB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F55E-94D4-499E-B818-71C20AB5D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804D-D6B8-40CE-BB5A-ADD696414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8977-9661-434E-A581-DE74EF52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6688-14E7-466E-B5B2-F00F2277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9DDB-1A4D-471D-9EC5-BA8D6750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3BFA-2A36-4D5C-A959-92163F33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3DAF-B579-4C6F-AF13-5A131890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8EE2-920E-4530-AD68-3362E370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BEFD-C25E-4F81-B522-C48FB180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30E6-7F17-43B2-A0D9-55467552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8028-211B-42AA-82C8-761C46A55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file:///tmp/home/.config/libreoffice/4/user/gallery/SCREAM.WAV" TargetMode="External"/><Relationship Id="rId3" Type="http://schemas.microsoft.com/office/2007/relationships/media" Target="file:///tmp/home/.config/libreoffice/4/user/gallery/SCREAM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file:///tmp/home/.config/libreoffice/4/user/gallery/Drumroll.wav" TargetMode="External"/><Relationship Id="rId4" Type="http://schemas.microsoft.com/office/2007/relationships/media" Target="file:///tmp/home/.config/libreoffice/4/user/gallery/Drumroll.wav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Haunted%20house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971800" y="0"/>
            <a:ext cx="39625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old  hous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505320" y="533520"/>
            <a:ext cx="140976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e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048120" y="4876920"/>
            <a:ext cx="3009960" cy="14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done by jourdai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1" name="Mouse" descr=""/>
          <p:cNvPicPr/>
          <p:nvPr/>
        </p:nvPicPr>
        <p:blipFill>
          <a:blip r:embed="rId1"/>
          <a:stretch/>
        </p:blipFill>
        <p:spPr>
          <a:xfrm>
            <a:off x="3276720" y="2971800"/>
            <a:ext cx="2593800" cy="1679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295280" y="312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752480" y="457200"/>
            <a:ext cx="4572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 the old ,old housewas an old,old do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5" name="Door" descr=""/>
          <p:cNvPicPr/>
          <p:nvPr/>
        </p:nvPicPr>
        <p:blipFill>
          <a:blip r:embed="rId1"/>
          <a:stretch/>
        </p:blipFill>
        <p:spPr>
          <a:xfrm>
            <a:off x="5943600" y="1600200"/>
            <a:ext cx="2922480" cy="4667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905120" y="1447920"/>
            <a:ext cx="4572000" cy="68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ehind the old,ol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oor  were some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ld,old step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8" name="Stairs" descr=""/>
          <p:cNvPicPr/>
          <p:nvPr/>
        </p:nvPicPr>
        <p:blipFill>
          <a:blip r:embed="rId1"/>
          <a:stretch/>
        </p:blipFill>
        <p:spPr>
          <a:xfrm flipH="1">
            <a:off x="2514240" y="2590920"/>
            <a:ext cx="3328920" cy="3578040"/>
          </a:xfrm>
          <a:prstGeom prst="rect">
            <a:avLst/>
          </a:prstGeom>
          <a:ln w="0">
            <a:noFill/>
          </a:ln>
        </p:spPr>
      </p:pic>
      <p:pic>
        <p:nvPicPr>
          <p:cNvPr id="49" name="Footsteps" descr=""/>
          <p:cNvPicPr/>
          <p:nvPr/>
        </p:nvPicPr>
        <p:blipFill>
          <a:blip r:embed="rId2"/>
          <a:stretch/>
        </p:blipFill>
        <p:spPr>
          <a:xfrm>
            <a:off x="3733920" y="5257800"/>
            <a:ext cx="2570040" cy="1209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5257800" y="2971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590920" y="609480"/>
            <a:ext cx="3124080" cy="10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at the top of the old,old  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steps was an old,old old,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hest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2" name="Old%20chest" descr=""/>
          <p:cNvPicPr/>
          <p:nvPr/>
        </p:nvPicPr>
        <p:blipFill>
          <a:blip r:embed="rId7"/>
          <a:stretch/>
        </p:blipFill>
        <p:spPr>
          <a:xfrm>
            <a:off x="2133720" y="259092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525780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447920" y="457200"/>
            <a:ext cx="6553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 the old,old chest were some old,old,ha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55" name="Hats" descr=""/>
          <p:cNvPicPr/>
          <p:nvPr/>
        </p:nvPicPr>
        <p:blipFill>
          <a:blip r:embed="rId1"/>
          <a:stretch/>
        </p:blipFill>
        <p:spPr>
          <a:xfrm flipH="1">
            <a:off x="2133720" y="3429000"/>
            <a:ext cx="3504960" cy="1565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286000" y="533520"/>
            <a:ext cx="421956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under the  old,old, hat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an old,old bo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58" name="Box" descr=""/>
          <p:cNvPicPr/>
          <p:nvPr/>
        </p:nvPicPr>
        <p:blipFill>
          <a:blip r:embed="rId1"/>
          <a:stretch/>
        </p:blipFill>
        <p:spPr>
          <a:xfrm>
            <a:off x="3124080" y="2362320"/>
            <a:ext cx="2971800" cy="2608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248520" y="3429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514600" y="1523880"/>
            <a:ext cx="3614760" cy="816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 the old,old bo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as an old,old ke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61" name="Key%201" descr=""/>
          <p:cNvPicPr/>
          <p:nvPr/>
        </p:nvPicPr>
        <p:blipFill>
          <a:blip r:embed="rId1"/>
          <a:stretch/>
        </p:blipFill>
        <p:spPr>
          <a:xfrm>
            <a:off x="223920" y="2128680"/>
            <a:ext cx="8696160" cy="2600640"/>
          </a:xfrm>
          <a:prstGeom prst="rect">
            <a:avLst/>
          </a:prstGeom>
          <a:ln w="0">
            <a:noFill/>
          </a:ln>
        </p:spPr>
      </p:pic>
      <p:pic>
        <p:nvPicPr>
          <p:cNvPr id="62" name="Key%202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8439120" cy="2600280"/>
          </a:xfrm>
          <a:prstGeom prst="rect">
            <a:avLst/>
          </a:prstGeom>
          <a:ln w="0">
            <a:noFill/>
          </a:ln>
        </p:spPr>
      </p:pic>
      <p:pic>
        <p:nvPicPr>
          <p:cNvPr id="63" name="Key%201" descr=""/>
          <p:cNvPicPr/>
          <p:nvPr/>
        </p:nvPicPr>
        <p:blipFill>
          <a:blip r:embed="rId3"/>
          <a:stretch/>
        </p:blipFill>
        <p:spPr>
          <a:xfrm>
            <a:off x="223920" y="2128680"/>
            <a:ext cx="869616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895480" y="609480"/>
            <a:ext cx="34290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suddenly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appeared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a ....................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743200" y="228600"/>
            <a:ext cx="2800440" cy="21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ghost</a:t>
            </a:r>
            <a:endParaRPr b="0" lang="en-US" sz="72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7" name="Ghost" descr=""/>
          <p:cNvPicPr/>
          <p:nvPr/>
        </p:nvPicPr>
        <p:blipFill>
          <a:blip r:embed="rId3"/>
          <a:stretch/>
        </p:blipFill>
        <p:spPr>
          <a:xfrm>
            <a:off x="3429000" y="2209680"/>
            <a:ext cx="3451320" cy="4023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438280" y="3048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0:32:33Z</dcterms:created>
  <dc:creator>4glenb2</dc:creator>
  <dc:description/>
  <dc:language>en-US</dc:language>
  <cp:lastModifiedBy>4glenb2</cp:lastModifiedBy>
  <dcterms:modified xsi:type="dcterms:W3CDTF">2009-10-14T10:38:51Z</dcterms:modified>
  <cp:revision>1</cp:revision>
  <dc:subject/>
  <dc:title>PowerPoint Presentation</dc:title>
</cp:coreProperties>
</file>